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gif" ContentType="image/gif"/>
  <Override PartName="/ppt/media/image25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1F6-7E3F-450C-B157-1DB6CBAE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E0F-7CAB-4352-972D-0EAE7448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CD1-FE80-47F8-B18F-4C1C4AF1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4BF-C493-40E3-810A-D5925E4C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B65-FA7B-41BC-84A6-5AD17D75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95F-AD7F-4D15-A805-B2118B0D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067D-EB2D-4A23-B981-D62C83D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E29-7500-40D9-B4C2-77B8B336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D0AB-0E5C-4A09-8A7F-C027185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D77D-D419-41D6-BDA1-B41FEEA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9854-E821-4027-ADFF-A39A3EE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981-F248-468A-9A2F-97B7671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1AE-8B30-4661-A0BF-4633BF4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9BAA-2645-4AB1-95F9-372420AC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1F53-682C-42AF-9ADA-19D337E2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A2A6-9165-42FD-8FBA-9459903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77E4-8535-4ADF-A7BF-546C5B1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26D-7240-439F-95CC-C803164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265-1C52-4835-93D8-146F010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29F-AFDC-45E2-B3E5-6723F8FD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9D5-FEFB-4B78-A16F-81895D30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10D-1609-41BF-9461-F5B7D8F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82B-0246-4B5E-9DEA-3399206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6F8-1CA7-459A-8213-A49359B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9CB-83F8-4FAE-A160-6E026620D1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65FC-8488-423B-986B-92A21FA1A8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50920" y="260280"/>
            <a:ext cx="8713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MEDII  DE  VIAŢ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0920" y="3716280"/>
            <a:ext cx="88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c145"/>
                </a:solidFill>
                <a:latin typeface="Impact"/>
              </a:rPr>
              <a:t>GRĂD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c145"/>
              </a:solidFill>
              <a:latin typeface="Impact"/>
              <a:ea typeface="Impact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2352600" cy="2808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877080" y="2205000"/>
            <a:ext cx="2066760" cy="21909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288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30840" y="476280"/>
            <a:ext cx="831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Unele plante trăiesc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mai mulţi ani – plante peren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32720" y="6491160"/>
            <a:ext cx="24112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6200" y="5805360"/>
            <a:ext cx="82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Numiţi câteva plante peren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-9360" y="189000"/>
            <a:ext cx="519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Omul consumă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de la une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plan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46960" y="1484280"/>
            <a:ext cx="343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rădăcina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tulpina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frunzele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fructele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eminţele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floril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30320" y="5667480"/>
            <a:ext cx="33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Amintiţi-vă ş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daţi exempl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24000" y="76320"/>
            <a:ext cx="9468000" cy="67816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780640" y="260280"/>
            <a:ext cx="613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Bogate în vitamine şi minera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legumele, zarzavatur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şi fructele trebuie să f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nelipsite din alimentaţ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008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67820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1920" y="333360"/>
            <a:ext cx="904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Se recomandă să  se cons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mai ales în stare proaspăt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0" y="4653000"/>
            <a:ext cx="717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Enumeraţi şi alte modalităţ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de a consuma legume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zarzavaturile şi fructe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28400" y="33264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În grădină întâlnim ş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4680" y="1340640"/>
            <a:ext cx="78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insecte şi păsări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folosito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" y="2060280"/>
            <a:ext cx="423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buburuz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fluturi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albin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păianjeni etc.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râm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diferite păsări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veveriţe etc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24280" y="4869000"/>
            <a:ext cx="19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flutu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01720" y="765000"/>
            <a:ext cx="49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acestea ajută l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6080" y="191916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polenizarea plante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96880" y="4292640"/>
            <a:ext cx="18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alb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116000" y="5400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4560" y="333360"/>
            <a:ext cx="84268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ccff"/>
                </a:solidFill>
                <a:latin typeface="Tahoma"/>
              </a:rPr>
              <a:t>combaterea dăunătoril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păduchi de plan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omiz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gândaci şi alte insecte dăunătoa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viermi care atacă fruc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şi lemnul copaci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greier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melci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04880" y="587700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buburu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77520" y="476280"/>
            <a:ext cx="60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ffff"/>
                </a:solidFill>
                <a:latin typeface="Tahoma"/>
              </a:rPr>
              <a:t>înmulţirea plantelo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299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435640" cy="3925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25160" y="2421000"/>
            <a:ext cx="28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ryso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58920" y="4292640"/>
            <a:ext cx="28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ab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8160" y="141120"/>
            <a:ext cx="321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Alte insec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folosito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39720" y="590400"/>
            <a:ext cx="29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călugăriţ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9280" y="187200"/>
            <a:ext cx="54565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Grădina este un medi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de viaţ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realiza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de om</a:t>
            </a:r>
            <a:r>
              <a:rPr b="1" lang="ro-RO" sz="5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262480" y="0"/>
            <a:ext cx="38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02440" y="4076640"/>
            <a:ext cx="539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- afânarea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- fertilizarea solului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1680" y="371520"/>
            <a:ext cx="26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5400" spc="-1" strike="noStrike">
                <a:solidFill>
                  <a:srgbClr val="ffffff"/>
                </a:solidFill>
                <a:latin typeface="Tahoma"/>
              </a:rPr>
              <a:t>râme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666960" cy="4221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572000" cy="35593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349440" cy="40053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28400" y="33264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În grădină întâlnim ş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1720" y="1340640"/>
            <a:ext cx="80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insecte şi păsări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dăunăto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8880" y="2276640"/>
            <a:ext cx="61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gândacul de Colorad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08400" y="692280"/>
            <a:ext cx="617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fluturele alb al verzei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018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804000" y="1844640"/>
            <a:ext cx="2340000" cy="2301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012000" y="3776760"/>
            <a:ext cx="3132000" cy="30812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017000" y="1125360"/>
            <a:ext cx="53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păduchii de plant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2759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562800" y="0"/>
            <a:ext cx="2581200" cy="27813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3674520" y="3789360"/>
            <a:ext cx="2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greieri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680" y="2637000"/>
            <a:ext cx="339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Gândacul băl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8120" y="2349360"/>
            <a:ext cx="219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Gândac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gheb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0" y="3718080"/>
            <a:ext cx="3564000" cy="3139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6442200" y="3716280"/>
            <a:ext cx="2701800" cy="3141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 flipH="1">
            <a:off x="3059280" y="4292640"/>
            <a:ext cx="1008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2000" y="4292640"/>
            <a:ext cx="1008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49200" y="404640"/>
            <a:ext cx="250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gânda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340000" y="907920"/>
            <a:ext cx="201600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00720" y="981000"/>
            <a:ext cx="115092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780000" y="2825640"/>
            <a:ext cx="5364000" cy="4032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340960" y="571680"/>
            <a:ext cx="24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lăcust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059280" y="1341360"/>
            <a:ext cx="3241440" cy="1727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00720" y="1341360"/>
            <a:ext cx="503280" cy="2664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6948360" cy="68547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3080" y="620640"/>
            <a:ext cx="71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limax – melcul fără cochili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4029120"/>
            <a:ext cx="2916360" cy="28288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65040" y="26028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coropişniţa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-131760" y="0"/>
            <a:ext cx="927576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721080" y="4941720"/>
            <a:ext cx="23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cârtiţă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93640" y="4941720"/>
            <a:ext cx="68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trebuie păstrate curat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920" y="189000"/>
            <a:ext cx="292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paţii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verz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urs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de a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cur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ş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oxigen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900000" y="888840"/>
            <a:ext cx="8244000" cy="5969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79800" y="138240"/>
            <a:ext cx="56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ro-RO" sz="4400" spc="-1" strike="noStrike">
                <a:solidFill>
                  <a:srgbClr val="ffffcc"/>
                </a:solidFill>
                <a:latin typeface="Tahoma"/>
              </a:rPr>
              <a:t>pentru a se hrăn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4000" y="4937040"/>
            <a:ext cx="53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grădina de legum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şi rădăcinoas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livada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36600" y="3213000"/>
            <a:ext cx="678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Plantele şi animale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434760" y="5157720"/>
            <a:ext cx="509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care trăiesc în e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3063960" y="5805360"/>
            <a:ext cx="49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6600"/>
                </a:solidFill>
                <a:latin typeface="Tahoma"/>
              </a:rPr>
              <a:t>trebuie ocrotit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50920" y="549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a împrospăta şi curăţa                  aerul: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73000" y="1125360"/>
            <a:ext cx="633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parcuri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grădinile ornamenta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00" y="2924280"/>
            <a:ext cx="77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conservarea unor soiur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de plante şi specii de anima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88360" y="4076640"/>
            <a:ext cx="48970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grădinile botan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grădinile zoolog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79280" y="620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a-şi înfrumuseţa mediul            de viaţă şi a se recree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524720" y="5238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808200" y="531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3320" y="5589720"/>
            <a:ext cx="71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Fiecare soi de plantă are nevo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de un anumit tip de s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0680" y="189000"/>
            <a:ext cx="659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a obţine rezult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în cultivarea solulu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omul trebu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8640" y="1341360"/>
            <a:ext cx="418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să facă la ti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lucrările agrico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9960" y="2565360"/>
            <a:ext cx="299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arat/săp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fertiliz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semăn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plivi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64760" y="2637000"/>
            <a:ext cx="435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rări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irigat / ud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stropit împotr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dăunători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- recolt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39640" y="303120"/>
            <a:ext cx="709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00"/>
                </a:solidFill>
                <a:latin typeface="Tahoma"/>
              </a:rPr>
              <a:t>În grădini se cultiv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080" y="1268280"/>
            <a:ext cx="7289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legume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zarzavaturi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pomi fructiferi (livezi)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plante ornamentale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cereale etc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933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3276720" cy="3789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0" y="3038400"/>
            <a:ext cx="5867280" cy="3819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3081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21560" y="4149720"/>
            <a:ext cx="854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Unele plante au ciclul de viaţ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de un an – plante anua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360" y="5734080"/>
            <a:ext cx="34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aţi exemp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067280" y="3032280"/>
            <a:ext cx="5076720" cy="3825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0798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11640" cy="3174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7520" y="1916280"/>
            <a:ext cx="819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Sunt plante cu ciclul de viaţ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de doi ani – plante biena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4160" y="5877000"/>
            <a:ext cx="59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Enumeraţi plante biena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6:09:16Z</dcterms:created>
  <dc:creator>user</dc:creator>
  <dc:description/>
  <dc:language>en-US</dc:language>
  <cp:lastModifiedBy>IULIA</cp:lastModifiedBy>
  <dcterms:modified xsi:type="dcterms:W3CDTF">2009-11-11T17:08:24Z</dcterms:modified>
  <cp:revision>185</cp:revision>
  <dc:subject/>
  <dc:title>Slide 1</dc:title>
</cp:coreProperties>
</file>